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9F66-8809-46E1-9173-AA15E52AE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579F-4891-45E4-A0F5-A1A821861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5DC-D169-45F8-B7A3-61A10033A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DA23-3B46-4B4B-A513-F67A77A1C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428F-268D-44EB-9A86-7E54A18E7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73C-6B51-42B2-904B-D13CAAC2A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8B1-1686-47F2-AB3C-73B1F6C33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AF30-2E4D-4C65-8E6A-ECCCFF405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6813-F54D-4774-87EB-9692FC6FE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7FA-9395-4D04-8B4B-1920E492A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25E4-1409-4FEE-AE7A-C1B49A4EB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6C9-E816-4C86-A72B-3D73F1331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40B-1485-40CB-8E25-11F807E96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44C3-565B-4BD3-940C-D1B9FDE26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7AC-DE43-41D4-8AA4-C39FCC963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4CA-FDE4-4D4A-91E8-0419B9AAA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809D-A994-4922-BDEE-8AA8F9A0C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9BB8-F243-4757-881B-00124DF7E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9A36-3EB1-496C-8227-340AC17EF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C538-8258-49D7-B3B6-96FE9F8AB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633-D5C1-4750-8B6F-E127EBBB5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195-DB0C-412D-B7BE-58FD73F89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35F0-6C35-4FC1-ABDE-C6ED75EEF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BCED-7767-4D10-9E62-E5642CAA2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8DD-873C-454F-94BA-DBF66475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414-E1CF-40FC-9F2A-CECF7AE1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9D4-16C7-4384-A801-4DAB65C3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9B04-969B-4B32-9E8F-976096833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144-C83F-42C2-9B41-DA12103E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CE4-8E9F-4A02-9B05-B9699B92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EBF-A98F-470A-9FFE-58B922E3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A97-981A-4988-9C97-FD68AD0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8062-458D-4212-B4D6-B3FBCDD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EC3-7193-4A05-B43C-49D9033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CD8-B01B-40FE-8147-5887B41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47B-8ABB-424E-9BDF-0277A652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1120-AB91-4C65-A2F1-8084223011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 halihazırda bir kara para aklama tekniği olarak kullanılmaktad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para aklama tekniği sanal dünyada da, öncelikli olarak işlemleri daha meşru gösterme gayretiyle kullanılmakt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van şirketlere aktarılan paralar genelde bireysel kuryelere veya bunlar tarafından aktarılan miktarlardan daha yüksek ol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: 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hiçbir ticari faaliyeti, malvarlığı veya yükümlülüğü bulunmayan, sadece banka hesabına sahip olmak amacıyla yaratılmış şirketlerd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 (veya bunların banka hesapları) genellikle öncül suç mahallinin dışındaki yabancı ülkelerde bulunu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van şirketler, ödemeyi yapan bankadan yapılan havaleye meşru bir görünüm ka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anal suçlardan elde edilen gelirler bakımından paravan şirket kullanımı başka ne gibi güçlükler yaratı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bir paravan şirket kur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yabancı bir ülkede bu paravan şirket adına bir banka hesabı aç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uçlu hileli bir faaliyette bulunur ve mağdurların hesaplarından paravan şirketin banka hesabına para akta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van Şirketlerden Ge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Paravan şirketlerden ge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ÖN ÖDEMELİ KARTL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Değerin ödeme kartıyla önceden ilişkilendirilmesine imkân sağl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İki türü vard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apalı ön ödemeli kartlar: sadece belirli bir şirket veya mağazada kullanılabilir (örn. hediye kartları) ve anonim olarak satın alıp kullanılab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çık ön ödemeli kartlar: bir banka, kredi kartı veya başkaca bir finans kuruluşu tarafından düzenlenir. Başka herhangi bir ödeme kartı gibi kullanılab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Kontörlü cep telefonu kartları ve ön ödemeli cep telefonları açısından da aynı tipoloji geçerlid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lu örneğin kötü amaçlı bankacılık yazılımı yoluyla para elde 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Paralar bir para kuryesine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ye parayı nakit olarak çeker ve bunu ön ödemeli kartlar satın almakta kullan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Daha sonra bu kartlar kullanılır veya satılır. Satılırsa, genellikle üzerinde yazılı olan değerden düşüğe satılı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n Ödemeli Kartların/Kart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Ön ödemeli kartların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TEKİ KUMAR platformlar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 çeşitli kumar türlerine imkân sağ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Paralar sisteme genelde geleneksel bankacılık sektörü aracılığıyla giriş/çıkış yapar (örn. havale, kredi/banka kartı vb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İnternetteki kumar sitelerinin hukuki statüsü ve bunlara ilişkin düzenlemeler değişkenlik arz etmekte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Tipolojisi (Örnek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ın ve suç ortaklarının elinde, paraya çevrilmek üzere birçok çalıntı kredi kart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ön ödemeli bir karta (veya aklanan kara paraların yüklenebileceği başka bir karta) sahiptir ve suç ortaklarında da çalıntı kredi kartları bulun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kumar platformunda oturum açar ve parayı kendi kumar hesaplarına aktarır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lar ve suç ortakları (örneğin) hep birlikte bir poker salonuna gire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rtaklar bilerek suçluya yenilirl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zançlar suçlunun internet platformundaki kumar hesab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lu paraları kendisinde bulunan ödeme kartına aktarır, ardından da bu kartı kullanır veya sat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277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ı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teki Kumar Platformlarından Elde Edilen Paraların/Paralara Dondurulması,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teki kumar platformlarından elde edilen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üzerinden satın al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van Şirket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Ön Ödemeli Kart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teki kumar ve elektronik ticaret platform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ÜZERİNDEN SATIN AL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3016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ir kartın verilerine veya bankacılık bilgilerine erişim elde ed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ihlal edilen bu bilgileri kullanarak mal (örn. uçak bileti) satın a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bu uçak biletlerini internetteki bir açık arttırma sitesinde satışa çıkar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Açık arttırmayı biri kazanır ve ödemeyi suçluya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Suçlu da uçak biletlerini açık arttırmayı kazanan kişiye gönder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tın Alımlar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 tespiti/faaliyet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üzerinden Satın Alımların/Alımlara Dondurulması, El Konulması ve Müsade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üzerinden satın alımların/alım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VAN ŞİRKET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26:41Z</dcterms:modified>
  <cp:revision>374</cp:revision>
  <dc:subject/>
  <dc:title>PowerPoint Presentation</dc:title>
</cp:coreProperties>
</file>